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png" ContentType="image/png"/>
  <Override PartName="/ppt/media/image13.png" ContentType="image/png"/>
  <Override PartName="/ppt/media/image11.jpeg" ContentType="image/jpeg"/>
  <Override PartName="/ppt/media/image7.gif" ContentType="image/gif"/>
  <Override PartName="/ppt/media/image5.jpeg" ContentType="image/jpeg"/>
  <Override PartName="/ppt/media/image17.png" ContentType="image/png"/>
  <Override PartName="/ppt/media/image10.wmf" ContentType="image/x-wmf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wmf" ContentType="image/x-wmf"/>
  <Override PartName="/ppt/media/image3.jpeg" ContentType="image/jpeg"/>
  <Override PartName="/ppt/media/image8.gif" ContentType="image/gif"/>
  <Override PartName="/ppt/media/image19.wmf" ContentType="image/x-wmf"/>
  <Override PartName="/ppt/media/image18.jpeg" ContentType="image/jpeg"/>
  <Override PartName="/ppt/media/image9.wmf" ContentType="image/x-wmf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8610B-FCF9-48C5-B8D2-A3560E3E6E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0D808-FFB4-4646-B804-768D86D280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18CFE-23B7-45E7-BF85-2DBF4FCDE4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20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894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74592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20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894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4F7AC-814E-4C90-A1E0-F59A9F30E1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D3538-D047-451F-9CCA-5F12D0A3428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D4E7E-C272-40F5-AF4D-CB31E53E950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F0FDA-1EA7-4651-BC39-3C429FECA92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08A62-BA06-42B9-8D1F-78787E31649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86818-4D30-439B-988D-DC9F2B4B786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1400" y="635040"/>
            <a:ext cx="778536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4338F-F26A-4A39-90A6-03B5E31F145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EFB2A-C103-44E5-973B-7A80B91F0B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CB8FB-790B-41A1-A894-9CAB859473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B2312-EE03-4DC1-AF27-34D774DE780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3D5B9-2FD8-447F-B32D-924EC91B736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E13AB-4470-4DAE-A9E2-93394898AFD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1F30E-8091-4C47-A4EF-78627D87068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320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894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74592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320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894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711EF-7FE7-452B-85CF-61D9DF562F4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80D9-525C-4DA5-9DAF-504127221A6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C101-78D8-49D1-8385-203E8D44810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A14C-3BFD-45FF-8117-60AB79DF01D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5C2B-E135-4F88-ABA0-0C6814A2031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561A-AC56-47E1-9E1A-2DB49DC0B9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61FFE-9C06-4140-984E-ED52FE5BB5D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71400" y="635040"/>
            <a:ext cx="778536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5F43-A9A1-48D4-B764-A4C13365A72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3625-C8F3-4F51-A404-D20C8F5CCFC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14B2-8D17-482C-A94D-2C7987382AC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D5ED-E65E-444F-A353-DF13BC82E26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8A23-2A3B-4EDA-82CB-CA18C445235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4CFD-801A-4041-AFA6-E6FF1C8766F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20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94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74592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20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94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86DF-F950-4127-86D0-D61E3EF263B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48E38B-E740-4BDB-817F-5EA6B470091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6FEE47-66F1-4F8D-8C22-A040BAD1D69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13F92B-5936-4C99-A56B-2D5C8DF232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A7479-7C3D-4825-B512-CB6E4A8BBBE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7E978A-05F0-4F77-B240-C7EBBDD4139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F8AA8B-83F8-42F0-B49C-63FA4C97EE6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71400" y="635040"/>
            <a:ext cx="778536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B86DDE-8CA7-43CD-8F02-1D67BD73159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0306F5-EEE7-4ECE-8A6A-2B8CA425221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07D0A4-BAB7-4168-BDBD-3FAC394D025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C343B3-7ACC-41E6-8593-F08E3E1E973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2A204B-5D9F-41BD-901C-F05A898F3CE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598788-FCBE-4E67-AB2F-6FA8AA0FDF1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320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894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74592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320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894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8576F1-38B2-438A-B450-79A8FAD4AC3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9634C0-F073-46C9-97B9-BB232D321E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4AD70-B012-4D0C-96C7-A81A807A455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EC0F9B-0ECB-4625-A17F-3563D4574EB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10E04B-ACE2-4D56-A4AF-612E58F47EE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4FB1E1-07D0-4576-8F8D-855D42926ED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B8B1EE-2ACA-4772-A6FF-54AD9A49CCA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671400" y="635040"/>
            <a:ext cx="778536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51DEAE-A5C5-44C4-B17F-57D624DA881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DB8AC4-975E-4B6E-8923-40D42735879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39328F-49F2-4E59-B90A-B29A1ABE0FF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11231C-4EC5-4B08-A626-63EAA1183E7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560CA2-9092-4301-97BF-F80E0DCEB46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21EFAC-74F5-49D3-B7C5-DFE00BE197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71400" y="635040"/>
            <a:ext cx="778536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D4A16-2624-4B4D-A66E-452A4FDEDEA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320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894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74592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320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894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612AB6-671F-4F8A-B478-D91DFEDCB5D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47CA3-E687-4DE9-A37F-237C53346DB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3ABF6-249C-48EF-AF47-61DF7BA447A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641BC-D758-43AA-8A9F-961D89B3648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D13F8-6CD4-4BEB-884C-D7DD807453B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24BC0-B3C3-491F-8A9C-56B1B8BBC17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671400" y="635040"/>
            <a:ext cx="778536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76253-77BF-4F0E-906A-17F2A8A7DBB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B8903-F370-4B1A-98DA-E4AEABFE931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6EB26-4954-4949-BC3F-6FCC8369313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7BCA7-0E8E-427F-BB9B-660F1561D6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466F4-91B0-4BE3-BE5B-1E3F27E63B0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8D132-D4C1-4D6A-A74E-9CBCB370C7F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8B525-090D-4EF9-B6A7-175EE432F06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20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894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74592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20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894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3BDF0-0E3D-4758-900C-71259904E82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5081A7-D11C-4FED-B690-C668BD3D242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97C092-04C7-41AE-8064-B7501D6169F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F1CCB8-DD34-4026-A53D-558C4057CF5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332511-73B8-4222-AFF3-D7FDBFCC5E0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88C839-7CA6-47B3-8E5D-37AD189A859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671400" y="635040"/>
            <a:ext cx="778536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330725-4B00-4186-B14F-E7097C29B82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1D1C3D-E345-488F-A95A-D9CDBF01D2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EA0FB-43EC-40CB-A0CD-89850E73030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732B39-4AC3-4DB7-BB60-2D00F310FB6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2A7762-440F-4D1B-81FF-D94A51F2812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C78A28-A7C2-46D9-8EE1-1DCCB62F5B0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41B846-641F-4FDE-A582-A6555E8C6A6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320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894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74592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320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894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49D5B8-B6FD-4F14-B0FE-7C4C69D76F0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93682-958E-4A9D-9D85-D1B28789AA2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671400" y="635040"/>
            <a:ext cx="778536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320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894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74592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320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894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296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296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8786880" y="268200"/>
            <a:ext cx="19987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Text Box 5"/>
          <p:cNvSpPr/>
          <p:nvPr/>
        </p:nvSpPr>
        <p:spPr>
          <a:xfrm rot="5400000">
            <a:off x="702792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Line 6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Line 7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Line 9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Oval 1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sldNum" idx="1"/>
          </p:nvPr>
        </p:nvSpPr>
        <p:spPr>
          <a:xfrm>
            <a:off x="8129520" y="5734080"/>
            <a:ext cx="57168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Arial Unicode MS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CB96C0D-7F6D-4E6B-9B47-B5B6E2361E4E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Rectangle 2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Line 5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Line 6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w="57240">
            <a:solidFill>
              <a:srgbClr val="ffe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Line 7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Line 8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w="284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Line 9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Line 10"/>
          <p:cNvSpPr/>
          <p:nvPr/>
        </p:nvSpPr>
        <p:spPr>
          <a:xfrm>
            <a:off x="911376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Oval 12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Oval 13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Oval 14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Oval 15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Oval 16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296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296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Text Box 19"/>
          <p:cNvSpPr/>
          <p:nvPr/>
        </p:nvSpPr>
        <p:spPr>
          <a:xfrm>
            <a:off x="9097920" y="222120"/>
            <a:ext cx="22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20"/>
          <p:cNvSpPr/>
          <p:nvPr/>
        </p:nvSpPr>
        <p:spPr>
          <a:xfrm rot="5400000">
            <a:off x="71146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2"/>
          </p:nvPr>
        </p:nvSpPr>
        <p:spPr>
          <a:xfrm>
            <a:off x="1325520" y="4929120"/>
            <a:ext cx="57168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BBA67DA-E746-4984-B6E0-DBD6B362DE64}" type="slidenum">
              <a: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Line 2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Oval 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296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296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8786880" y="268200"/>
            <a:ext cx="19987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57168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F98EE64-E161-44DA-A34E-5D602B3D131A}" type="slidenum">
              <a: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1"/>
          <p:cNvSpPr/>
          <p:nvPr/>
        </p:nvSpPr>
        <p:spPr>
          <a:xfrm rot="5400000">
            <a:off x="702792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Line 5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Line 6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w="57240">
            <a:solidFill>
              <a:srgbClr val="ffe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Line 7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Line 8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w="284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10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Oval 11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Oval 12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Oval 13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Oval 14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Oval 15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Line 16"/>
          <p:cNvSpPr/>
          <p:nvPr/>
        </p:nvSpPr>
        <p:spPr>
          <a:xfrm>
            <a:off x="9097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296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296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Text Box 19"/>
          <p:cNvSpPr/>
          <p:nvPr/>
        </p:nvSpPr>
        <p:spPr>
          <a:xfrm>
            <a:off x="9096480" y="217440"/>
            <a:ext cx="22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20"/>
          <p:cNvSpPr/>
          <p:nvPr/>
        </p:nvSpPr>
        <p:spPr>
          <a:xfrm rot="5400000">
            <a:off x="71146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Num" idx="4"/>
          </p:nvPr>
        </p:nvSpPr>
        <p:spPr>
          <a:xfrm>
            <a:off x="1339560" y="4929120"/>
            <a:ext cx="5713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425BB6C-0DDB-4C73-B8C8-AEA1CA9D1DCA}" type="slidenum">
              <a: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Line 2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Oval 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296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296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8786880" y="268200"/>
            <a:ext cx="19987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Num" idx="5"/>
          </p:nvPr>
        </p:nvSpPr>
        <p:spPr>
          <a:xfrm>
            <a:off x="8129520" y="5734080"/>
            <a:ext cx="57168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CF461CB-44FA-4B63-85EC-C1D6AC27EAD7}" type="slidenum">
              <a: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1"/>
          <p:cNvSpPr/>
          <p:nvPr/>
        </p:nvSpPr>
        <p:spPr>
          <a:xfrm rot="5400000">
            <a:off x="702792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Line 2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Line 3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Line 4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Line 6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Oval 7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296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296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8786880" y="268200"/>
            <a:ext cx="19987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sldNum" idx="6"/>
          </p:nvPr>
        </p:nvSpPr>
        <p:spPr>
          <a:xfrm>
            <a:off x="8129520" y="5734080"/>
            <a:ext cx="57168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A7CE3C9-58DB-4DD6-9CB5-8148AB1BC041}" type="slidenum">
              <a: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2"/>
          <p:cNvSpPr/>
          <p:nvPr/>
        </p:nvSpPr>
        <p:spPr>
          <a:xfrm rot="5400000">
            <a:off x="702792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Oval 2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Line 6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Line 7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296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296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Text Box 10"/>
          <p:cNvSpPr/>
          <p:nvPr/>
        </p:nvSpPr>
        <p:spPr>
          <a:xfrm>
            <a:off x="8786880" y="268200"/>
            <a:ext cx="19987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Num" idx="7"/>
          </p:nvPr>
        </p:nvSpPr>
        <p:spPr>
          <a:xfrm>
            <a:off x="8129520" y="5734080"/>
            <a:ext cx="57168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0E90AB6-7949-42E6-ABAD-C05F479D93C9}" type="slidenum">
              <a: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12"/>
          <p:cNvSpPr/>
          <p:nvPr/>
        </p:nvSpPr>
        <p:spPr>
          <a:xfrm rot="5400000">
            <a:off x="702792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1"/>
          <p:cNvSpPr/>
          <p:nvPr/>
        </p:nvSpPr>
        <p:spPr>
          <a:xfrm>
            <a:off x="539640" y="642960"/>
            <a:ext cx="7920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ПРОЕКТ НА ТЕМУ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«НЕГАТИВНОЕ ВЛИЯНИЕ ШУМА НА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ЗДОРОВЬЕ ЧЕЛОВЕКА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Text Box 2"/>
          <p:cNvSpPr/>
          <p:nvPr/>
        </p:nvSpPr>
        <p:spPr>
          <a:xfrm>
            <a:off x="4859280" y="3240000"/>
            <a:ext cx="360036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Выполнили :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3668c4"/>
                </a:solidFill>
                <a:latin typeface="Arial"/>
                <a:ea typeface="Arial Unicode MS"/>
              </a:rPr>
              <a:t>Иноземцева Т.Н.МОУ «СОШ № 103» г.Сарато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3668c4"/>
                </a:solidFill>
                <a:latin typeface="Arial"/>
                <a:ea typeface="Arial Unicode MS"/>
              </a:rPr>
              <a:t>Фролова Н.А.МОУ «СОШ № 103» г.Сарато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-360360" y="8810640"/>
            <a:ext cx="2801880" cy="144936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4" descr=""/>
          <p:cNvPicPr/>
          <p:nvPr/>
        </p:nvPicPr>
        <p:blipFill>
          <a:blip r:embed="rId2"/>
          <a:stretch/>
        </p:blipFill>
        <p:spPr>
          <a:xfrm>
            <a:off x="574560" y="2824200"/>
            <a:ext cx="4286520" cy="329544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1" descr=""/>
          <p:cNvPicPr/>
          <p:nvPr/>
        </p:nvPicPr>
        <p:blipFill>
          <a:blip r:embed="rId1"/>
          <a:stretch/>
        </p:blipFill>
        <p:spPr>
          <a:xfrm>
            <a:off x="5759280" y="711360"/>
            <a:ext cx="2802240" cy="144936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2"/>
          <p:cNvSpPr/>
          <p:nvPr/>
        </p:nvSpPr>
        <p:spPr>
          <a:xfrm>
            <a:off x="452520" y="314280"/>
            <a:ext cx="7467480" cy="16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575f6d"/>
                </a:solidFill>
                <a:latin typeface="Century Schoolbook"/>
                <a:ea typeface="Arial Unicode MS"/>
              </a:rPr>
              <a:t>Рекомендации </a:t>
            </a:r>
            <a:br>
              <a:rPr sz="2600"/>
            </a:br>
            <a:r>
              <a:rPr b="1" lang="ru-RU" sz="2600" spc="-1" strike="noStrike">
                <a:solidFill>
                  <a:srgbClr val="575f6d"/>
                </a:solidFill>
                <a:latin typeface="Century Schoolbook"/>
                <a:ea typeface="Arial Unicode MS"/>
              </a:rPr>
              <a:t>по ослаблению негативного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575f6d"/>
                </a:solidFill>
                <a:latin typeface="Century Schoolbook"/>
                <a:ea typeface="Arial Unicode MS"/>
              </a:rPr>
              <a:t>влияния шума на организм человек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Text Box 3"/>
          <p:cNvSpPr/>
          <p:nvPr/>
        </p:nvSpPr>
        <p:spPr>
          <a:xfrm>
            <a:off x="457200" y="1979640"/>
            <a:ext cx="7467480" cy="44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3560" indent="-493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Ограничить ежедневное прослушивание громкой музыки, телевизионных передач, работу за компьютером 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При выполнении шумной работы, через каждый час делать 10 минутный</a:t>
            </a: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	</a:t>
            </a: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перерыв или прослушивать успокаивающую музыку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Следить за разговорной речью: не кричать, не повышать голос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Регулярное медицинское обследование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Посадка деревьев вокруг зданий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Предпочтение отдавать отдыху на природе, а не дискотеке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Применение средств  защиты от шума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       </a:t>
            </a: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наушники из шумоизолирующих материалов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       </a:t>
            </a: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противошумные вкладыши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buClr>
                <a:srgbClr val="2300dc"/>
              </a:buClr>
              <a:buFont typeface="Wingdings" charset="2"/>
              <a:buChar char=""/>
              <a:tabLst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Информационная работа по профилактике влияния шума на здоровье обучающихся 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6000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1"/>
          <p:cNvSpPr/>
          <p:nvPr/>
        </p:nvSpPr>
        <p:spPr>
          <a:xfrm>
            <a:off x="720720" y="720720"/>
            <a:ext cx="73803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ВЫВОД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Schoolbook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В результате ограничения прослушивания громкой музыки 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    </a:t>
            </a: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работы        за компьютером улучшился сон у 30% учащихся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2.  Повысилось внимание и активизировалась учебная деятельность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3. Снизилась доля конфликтов между учащимися на 20%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4. В течение зимних каникул 60% учащихся предпочли ежедневное    катание на коньках и лыжах ежедневному сидению у компьютера и    телевизора;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5. Провели беседу о негативном влиянии шума на учеников 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   </a:t>
            </a: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пропагандировали здоровый образ жизни в 4 начальных классах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7. После медицинского обследования 10%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   </a:t>
            </a: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девятиклассников получили рекомендац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   </a:t>
            </a: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по лечению и восстановлению слух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8" name="Picture 2" descr=""/>
          <p:cNvPicPr/>
          <p:nvPr/>
        </p:nvPicPr>
        <p:blipFill>
          <a:blip r:embed="rId1"/>
          <a:stretch/>
        </p:blipFill>
        <p:spPr>
          <a:xfrm>
            <a:off x="6227640" y="4797360"/>
            <a:ext cx="2232000" cy="151128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1"/>
          <p:cNvSpPr/>
          <p:nvPr/>
        </p:nvSpPr>
        <p:spPr>
          <a:xfrm>
            <a:off x="457200" y="272880"/>
            <a:ext cx="746604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  <a:ea typeface="Arial Unicode MS"/>
              </a:rPr>
              <a:t>ЧЕЛОВЕК !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Text Box 2"/>
          <p:cNvSpPr/>
          <p:nvPr/>
        </p:nvSpPr>
        <p:spPr>
          <a:xfrm>
            <a:off x="457200" y="1600200"/>
            <a:ext cx="746604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Здоровье, столь мало уважаемое в юных летах, делается в летах зрелости истинным благом; самое чувство жизни бывает гораздо милее тогда, когда уже пролетела ее быстрая половина.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                                                                    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Н.М.Карамзи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Здоровье никогда не может потерять своей цены в глазах человека, потому что и в довольстве и в роскоши плохо жить без здоровья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                                                           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Н.Г.Чернышевск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Берегите уши!  Будьте здоровы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  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Удачи</a:t>
            </a:r>
            <a:r>
              <a:rPr b="0" lang="ru-RU" sz="2400" spc="-1" strike="noStrike">
                <a:solidFill>
                  <a:srgbClr val="3333cc"/>
                </a:solidFill>
                <a:latin typeface="Century Schoolbook"/>
                <a:ea typeface="Arial Unicode MS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1" name="Picture 3" descr=""/>
          <p:cNvPicPr/>
          <p:nvPr/>
        </p:nvPicPr>
        <p:blipFill>
          <a:blip r:embed="rId1"/>
          <a:stretch/>
        </p:blipFill>
        <p:spPr>
          <a:xfrm>
            <a:off x="539640" y="4859280"/>
            <a:ext cx="1619280" cy="144000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"/>
          <p:cNvPicPr/>
          <p:nvPr/>
        </p:nvPicPr>
        <p:blipFill>
          <a:blip r:embed="rId2"/>
          <a:stretch/>
        </p:blipFill>
        <p:spPr>
          <a:xfrm>
            <a:off x="6659640" y="539640"/>
            <a:ext cx="1800000" cy="1440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ext Box 1"/>
          <p:cNvSpPr/>
          <p:nvPr/>
        </p:nvSpPr>
        <p:spPr>
          <a:xfrm>
            <a:off x="457200" y="720720"/>
            <a:ext cx="7467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  <a:ea typeface="Arial Unicode MS"/>
              </a:rPr>
              <a:t>Используемая литература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Text Box 2"/>
          <p:cNvSpPr/>
          <p:nvPr/>
        </p:nvSpPr>
        <p:spPr>
          <a:xfrm>
            <a:off x="457200" y="1413000"/>
            <a:ext cx="7467480" cy="50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235080"/>
                <a:tab algn="l" pos="6825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392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Использование коммуникативных средств при выполнении проектов как фактор формирования социальной компетентности педагога и учащихся. -Саратов: ИЦ «РАТА», 2009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235080"/>
                <a:tab algn="l" pos="6825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392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ОБЖ, 9 класс, поурочное планирование.-Волгоград: Учитель,2007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235080"/>
                <a:tab algn="l" pos="6825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392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Материалы Интернет с сайта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 mhtvl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file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://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235080"/>
                <a:tab algn="l" pos="6825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392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Селиверстова Д.Н., Селиверстова В.В., Селиверстов В.Н.Формула здоровья.- Волгоград: Зацарицынский вестник, 1995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235080"/>
                <a:tab algn="l" pos="6825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392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Ильичев А.А. Популярная энциклопедия для выживания подростков.-М:ЭКСМО-Пресс,200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235080"/>
                <a:tab algn="l" pos="6825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392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Колесов Д.В. Учебник «Биология», 8 класс,2009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5" name="Picture 3" descr=""/>
          <p:cNvPicPr/>
          <p:nvPr/>
        </p:nvPicPr>
        <p:blipFill>
          <a:blip r:embed="rId1"/>
          <a:stretch/>
        </p:blipFill>
        <p:spPr>
          <a:xfrm>
            <a:off x="6673680" y="4881600"/>
            <a:ext cx="1785960" cy="141768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1"/>
          <p:cNvSpPr/>
          <p:nvPr/>
        </p:nvSpPr>
        <p:spPr>
          <a:xfrm>
            <a:off x="671400" y="635040"/>
            <a:ext cx="779004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5" name="Picture 2" descr=""/>
          <p:cNvPicPr/>
          <p:nvPr/>
        </p:nvPicPr>
        <p:blipFill>
          <a:blip r:embed="rId1"/>
          <a:stretch/>
        </p:blipFill>
        <p:spPr>
          <a:xfrm>
            <a:off x="539640" y="4316400"/>
            <a:ext cx="3421080" cy="19843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3" descr=""/>
          <p:cNvPicPr/>
          <p:nvPr/>
        </p:nvPicPr>
        <p:blipFill>
          <a:blip r:embed="rId2"/>
          <a:stretch/>
        </p:blipFill>
        <p:spPr>
          <a:xfrm>
            <a:off x="539640" y="2160720"/>
            <a:ext cx="3419640" cy="1979640"/>
          </a:xfrm>
          <a:prstGeom prst="rect">
            <a:avLst/>
          </a:prstGeom>
          <a:ln w="0">
            <a:noFill/>
          </a:ln>
        </p:spPr>
      </p:pic>
      <p:sp>
        <p:nvSpPr>
          <p:cNvPr id="397" name="Text Box 4"/>
          <p:cNvSpPr/>
          <p:nvPr/>
        </p:nvSpPr>
        <p:spPr>
          <a:xfrm>
            <a:off x="720720" y="720720"/>
            <a:ext cx="7559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  <a:ea typeface="Arial Unicode MS"/>
              </a:rPr>
              <a:t>Обоснование выбора темы проект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824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боснование выбора темы проекта 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99" name="Text Box 6"/>
          <p:cNvSpPr/>
          <p:nvPr/>
        </p:nvSpPr>
        <p:spPr>
          <a:xfrm>
            <a:off x="4319640" y="2340000"/>
            <a:ext cx="414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Негативное влияние шума сказывается на органах слуха, сердечно-сосудистой системе, на работе печени, к истощению и перенапряжению нервных клеток, к изменениям в стволовых клетках. Ослабленные клетки нервной системы не могут достаточно четко координировать работу различных систем организма. Различные виды шумов приводят к развитию шумовой болезни.  Проведенные научные исследования показали, что у людей, находящихся в шумной обстановке,  в результате систематического воздействия шума, производительность труда падает на 10% и увеличивается заболеваемость на 30%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0" name="Picture 7" descr=""/>
          <p:cNvPicPr/>
          <p:nvPr/>
        </p:nvPicPr>
        <p:blipFill>
          <a:blip r:embed="rId3"/>
          <a:stretch/>
        </p:blipFill>
        <p:spPr>
          <a:xfrm>
            <a:off x="7020000" y="1260360"/>
            <a:ext cx="1218960" cy="11718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1"/>
          <p:cNvSpPr/>
          <p:nvPr/>
        </p:nvSpPr>
        <p:spPr>
          <a:xfrm>
            <a:off x="457200" y="274680"/>
            <a:ext cx="6419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5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ЦЕЛЬ ПРОЕКТА</a:t>
            </a:r>
            <a:endParaRPr b="0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Text Box 2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spcBef>
                <a:spcPts val="601"/>
              </a:spcBef>
              <a:tabLst>
                <a:tab algn="l" pos="0"/>
                <a:tab algn="l" pos="235080"/>
                <a:tab algn="l" pos="6825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392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</a:t>
            </a: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Разработать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35080" indent="-235080">
              <a:spcBef>
                <a:spcPts val="601"/>
              </a:spcBef>
              <a:tabLst>
                <a:tab algn="l" pos="0"/>
                <a:tab algn="l" pos="235080"/>
                <a:tab algn="l" pos="6825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392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</a:t>
            </a:r>
            <a:r>
              <a:rPr b="0" lang="en-US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</a:t>
            </a: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рекомендации по защите от </a:t>
            </a:r>
            <a:r>
              <a:rPr b="0" lang="en-US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</a:t>
            </a: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     </a:t>
            </a:r>
            <a:r>
              <a:rPr b="0" lang="en-US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 </a:t>
            </a: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негативного воздействия шума   на организм человека;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3" name="Picture 3" descr=""/>
          <p:cNvPicPr/>
          <p:nvPr/>
        </p:nvPicPr>
        <p:blipFill>
          <a:blip r:embed="rId1"/>
          <a:stretch/>
        </p:blipFill>
        <p:spPr>
          <a:xfrm>
            <a:off x="6588000" y="189000"/>
            <a:ext cx="2086200" cy="23572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"/>
          <p:cNvPicPr/>
          <p:nvPr/>
        </p:nvPicPr>
        <p:blipFill>
          <a:blip r:embed="rId2"/>
          <a:stretch/>
        </p:blipFill>
        <p:spPr>
          <a:xfrm>
            <a:off x="1779480" y="4319640"/>
            <a:ext cx="2000520" cy="192888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1"/>
          <p:cNvSpPr/>
          <p:nvPr/>
        </p:nvSpPr>
        <p:spPr>
          <a:xfrm>
            <a:off x="457200" y="274680"/>
            <a:ext cx="613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ЗАДАЧИ ПРОЕКТ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Text Box 2"/>
          <p:cNvSpPr/>
          <p:nvPr/>
        </p:nvSpPr>
        <p:spPr>
          <a:xfrm>
            <a:off x="395280" y="1628640"/>
            <a:ext cx="8115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1.Выяснить, что такое шум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2.Выявить источники шума в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</a:t>
            </a:r>
            <a:r>
              <a:rPr b="0" lang="ru-RU" sz="32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окружающей сред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3.Выявить опасный предел шума дл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</a:t>
            </a:r>
            <a:r>
              <a:rPr b="0" lang="ru-RU" sz="32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восприятия человек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4.Рекомендовать способы защиты о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</a:t>
            </a:r>
            <a:r>
              <a:rPr b="0" lang="ru-RU" sz="32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шум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7" name="Picture 3" descr=""/>
          <p:cNvPicPr/>
          <p:nvPr/>
        </p:nvPicPr>
        <p:blipFill>
          <a:blip r:embed="rId1"/>
          <a:stretch/>
        </p:blipFill>
        <p:spPr>
          <a:xfrm>
            <a:off x="6300720" y="1440000"/>
            <a:ext cx="1643040" cy="171432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1"/>
          <p:cNvSpPr/>
          <p:nvPr/>
        </p:nvSpPr>
        <p:spPr>
          <a:xfrm>
            <a:off x="1619280" y="189000"/>
            <a:ext cx="70358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КРИТЕРИИ ПРОЕКТ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Text Box 2"/>
          <p:cNvSpPr/>
          <p:nvPr/>
        </p:nvSpPr>
        <p:spPr>
          <a:xfrm>
            <a:off x="235080" y="1481040"/>
            <a:ext cx="9001080" cy="44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   </a:t>
            </a: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1.     Красочност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   </a:t>
            </a: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2.     Доступност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           </a:t>
            </a: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изложения материал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   </a:t>
            </a: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3.     Информативност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   </a:t>
            </a: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4.     Достоверност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0" name="Picture 3" descr=""/>
          <p:cNvPicPr/>
          <p:nvPr/>
        </p:nvPicPr>
        <p:blipFill>
          <a:blip r:embed="rId1"/>
          <a:stretch/>
        </p:blipFill>
        <p:spPr>
          <a:xfrm>
            <a:off x="480960" y="5040360"/>
            <a:ext cx="1859040" cy="14637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4" descr=""/>
          <p:cNvPicPr/>
          <p:nvPr/>
        </p:nvPicPr>
        <p:blipFill>
          <a:blip r:embed="rId2"/>
          <a:stretch/>
        </p:blipFill>
        <p:spPr>
          <a:xfrm>
            <a:off x="5425920" y="4500720"/>
            <a:ext cx="3033720" cy="18000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5" descr=""/>
          <p:cNvPicPr/>
          <p:nvPr/>
        </p:nvPicPr>
        <p:blipFill>
          <a:blip r:embed="rId3"/>
          <a:stretch/>
        </p:blipFill>
        <p:spPr>
          <a:xfrm>
            <a:off x="5265720" y="1265400"/>
            <a:ext cx="3193920" cy="179532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1"/>
          <p:cNvSpPr/>
          <p:nvPr/>
        </p:nvSpPr>
        <p:spPr>
          <a:xfrm>
            <a:off x="428760" y="735120"/>
            <a:ext cx="7920000" cy="61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Что такое шум 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Шум — беспорядочное сочетание различных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 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по</a:t>
            </a:r>
            <a:r>
              <a:rPr b="0" lang="en-US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 силе и частоте звук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Шум — громкие звуки, слившиеся в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 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нестройное    звучани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Шум-явление всепроникающее и негативн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воздействующее на организм человека 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совокупности с другими факторам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(вредными       примесями в воздухе и воде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электромагнитным   излучением,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напряженностью труда и т.д.).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4" name="Picture 2" descr=""/>
          <p:cNvPicPr/>
          <p:nvPr/>
        </p:nvPicPr>
        <p:blipFill>
          <a:blip r:embed="rId1"/>
          <a:stretch/>
        </p:blipFill>
        <p:spPr>
          <a:xfrm>
            <a:off x="6450120" y="720720"/>
            <a:ext cx="2009520" cy="107964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1" descr=""/>
          <p:cNvPicPr/>
          <p:nvPr/>
        </p:nvPicPr>
        <p:blipFill>
          <a:blip r:embed="rId1"/>
          <a:stretch/>
        </p:blipFill>
        <p:spPr>
          <a:xfrm>
            <a:off x="5219640" y="4140360"/>
            <a:ext cx="3060720" cy="216036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2"/>
          <p:cNvSpPr/>
          <p:nvPr/>
        </p:nvSpPr>
        <p:spPr>
          <a:xfrm>
            <a:off x="539640" y="549360"/>
            <a:ext cx="7666200" cy="57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Источники шум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Работа бытовых приборов: телевизор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 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магнитофон, стиральная машина, радио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 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Транспорт железнодорожный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 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авиационный,    автомобильный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Строительные работы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Природные явления: гром, цунами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 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землетрясение, обвалы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Музык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Шелест листвы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Шепот, разговор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Течение воды из кран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Крики, визг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Text Box 3"/>
          <p:cNvSpPr/>
          <p:nvPr/>
        </p:nvSpPr>
        <p:spPr>
          <a:xfrm>
            <a:off x="130320" y="1440000"/>
            <a:ext cx="40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6000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1"/>
          <p:cNvSpPr/>
          <p:nvPr/>
        </p:nvSpPr>
        <p:spPr>
          <a:xfrm>
            <a:off x="900000" y="539640"/>
            <a:ext cx="7559640" cy="631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Физические характеристики шум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Уровень шума измеряется в единицах звукового давления — децибелах (дБ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Century Schoolbook"/>
                <a:ea typeface="Arial Unicode MS"/>
              </a:rPr>
              <a:t>Болевой порог  </a:t>
            </a: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                                                               16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</a:t>
            </a: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Ракетный двигатель                                                       </a:t>
            </a: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140дБ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Громкая музыка                                                               12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</a:t>
            </a: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Дробильная машина                                                       </a:t>
            </a: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110дБ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Пресс, метро                                                                     10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entury Schoolbook"/>
                <a:ea typeface="Arial Unicode MS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Century Schoolbook"/>
                <a:ea typeface="Arial Unicode MS"/>
              </a:rPr>
              <a:t>Уровень шума, вредный для слуха                                </a:t>
            </a: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9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</a:t>
            </a: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Товарный поезд(на расстоянии 33 м)                            8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Пылесос (на  расстоянии 3м)                                            7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</a:t>
            </a: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Автомобильное движение на автостраде                       6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</a:t>
            </a: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Разговор                                                                              4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</a:t>
            </a: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Шелест листвы                                                                  1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Громкий разговор в классе                                               4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Хлопанье в ладоши на представлении                           88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«Ура»- хором                                                                     10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entury Schoolbook"/>
                <a:ea typeface="Arial Unicode MS"/>
              </a:rPr>
              <a:t>Девчачий визг                                                                  127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6000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ext Box 1"/>
          <p:cNvSpPr/>
          <p:nvPr/>
        </p:nvSpPr>
        <p:spPr>
          <a:xfrm>
            <a:off x="357120" y="539640"/>
            <a:ext cx="77407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Воздействие шума проявляетс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Text Box 2"/>
          <p:cNvSpPr/>
          <p:nvPr/>
        </p:nvSpPr>
        <p:spPr>
          <a:xfrm>
            <a:off x="1260360" y="1357200"/>
            <a:ext cx="299556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На слуховой аппарат человека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На нервную систему человека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На сердечно-сосудистую систему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На репродуктивную функцию человека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Text Box 3"/>
          <p:cNvSpPr/>
          <p:nvPr/>
        </p:nvSpPr>
        <p:spPr>
          <a:xfrm>
            <a:off x="3357720" y="2500200"/>
            <a:ext cx="540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Человек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Text Box 4"/>
          <p:cNvSpPr/>
          <p:nvPr/>
        </p:nvSpPr>
        <p:spPr>
          <a:xfrm>
            <a:off x="2571840" y="3143160"/>
            <a:ext cx="575928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Становитс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Раздражительным, нервным, слабым,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  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забывчивым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Тревожным, испуганным, плохо видит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 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ухудшается  интеллектуальная деятельность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Быстро утомляемым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              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Приобретае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Гипертоническую болезнь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Бессонницу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Неправильный обмен веществ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Снижается порог чувствительности нервных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 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клеток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3" name="Picture 5" descr=""/>
          <p:cNvPicPr/>
          <p:nvPr/>
        </p:nvPicPr>
        <p:blipFill>
          <a:blip r:embed="rId1"/>
          <a:stretch/>
        </p:blipFill>
        <p:spPr>
          <a:xfrm>
            <a:off x="539640" y="3351240"/>
            <a:ext cx="1981440" cy="204948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7T20:41:28Z</dcterms:created>
  <dc:creator>Ванек</dc:creator>
  <dc:description/>
  <dc:language>en-US</dc:language>
  <cp:lastModifiedBy>КарМаН</cp:lastModifiedBy>
  <dcterms:modified xsi:type="dcterms:W3CDTF">2011-08-23T12:14:27Z</dcterms:modified>
  <cp:revision>12</cp:revision>
  <dc:subject/>
  <dc:title>Проект на тему: «Негативное влияние шума на  здоровье человека»</dc:title>
</cp:coreProperties>
</file>